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440-13E9-47B9-B40E-A74D11BA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B93-0CCF-4EC6-96E1-02C36A2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FF6-2415-49B6-988D-EC92C0AB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E21-5BE4-4BD8-B74F-4AE25FEE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9CC-BA9F-4EB7-8570-917FC07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085-2169-4C61-8087-4179BB5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DDAA-8591-4B03-A577-3E256859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3C4-4E64-475A-B3F4-37A29312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FDBF-A0FD-4F09-94CD-1F8A4FD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B8A-33B9-43ED-8EBE-80EE0E2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B7F3-AE63-4D18-B584-83A5524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1EF-A021-44BB-8071-E7334ABC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154C-CADD-4D1A-B90A-D13E252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03AC-E17C-421E-B7E6-2305817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7375-6FBE-4AD9-B190-E819627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958C-15EB-4946-80BC-49470601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8D82-7E7B-44AE-B948-0C731453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70E-0860-47A4-8E74-EC73694F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9ED-9462-4A19-BD43-C944488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F05-CDA6-4CBC-BDCA-B467FB04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523-A8D1-4339-81E6-B22225A6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F4A-03B4-4902-BC9C-6D479C7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636-D024-4E3B-9275-8BF673C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075-28F4-406C-B50D-FCCB60E9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24205A-DC60-4E82-9220-0C70ECD9B5A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CEED07-0472-4CDE-9928-4946266C88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TORRE DE LAS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mages-8.jpeg"/>
          <p:cNvPicPr/>
          <p:nvPr/>
        </p:nvPicPr>
        <p:blipFill>
          <a:blip r:embed="rId1"/>
          <a:stretch/>
        </p:blipFill>
        <p:spPr>
          <a:xfrm>
            <a:off x="3150000" y="1828800"/>
            <a:ext cx="2519640" cy="380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IU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images-2.jpeg"/>
          <p:cNvPicPr/>
          <p:nvPr/>
        </p:nvPicPr>
        <p:blipFill>
          <a:blip r:embed="rId1"/>
          <a:srcRect l="-10610" t="0" r="-10610" b="0"/>
          <a:stretch/>
        </p:blipFill>
        <p:spPr>
          <a:xfrm>
            <a:off x="457200" y="1600200"/>
            <a:ext cx="8229240" cy="452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ARQUE DE ATRAC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image.aspx.jpeg"/>
          <p:cNvPicPr/>
          <p:nvPr/>
        </p:nvPicPr>
        <p:blipFill>
          <a:blip r:embed="rId1"/>
          <a:srcRect l="-29554" t="0" r="-29554" b="0"/>
          <a:stretch/>
        </p:blipFill>
        <p:spPr>
          <a:xfrm>
            <a:off x="457200" y="2438280"/>
            <a:ext cx="6705000" cy="3687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ALAMOD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images-7.jpeg"/>
          <p:cNvPicPr/>
          <p:nvPr/>
        </p:nvPicPr>
        <p:blipFill>
          <a:blip r:embed="rId1"/>
          <a:srcRect l="-2775" t="0" r="-2775" b="0"/>
          <a:stretch/>
        </p:blipFill>
        <p:spPr>
          <a:xfrm>
            <a:off x="457200" y="1600200"/>
            <a:ext cx="8229240" cy="452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ASEO DE RIO DURANTE LA NAV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images.jpeg"/>
          <p:cNvPicPr/>
          <p:nvPr/>
        </p:nvPicPr>
        <p:blipFill>
          <a:blip r:embed="rId1"/>
          <a:srcRect l="-10406" t="0" r="-10406" b="0"/>
          <a:stretch/>
        </p:blipFill>
        <p:spPr>
          <a:xfrm>
            <a:off x="2133720" y="2438280"/>
            <a:ext cx="4800240" cy="263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 MIS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images-3.jpeg"/>
          <p:cNvPicPr/>
          <p:nvPr/>
        </p:nvPicPr>
        <p:blipFill>
          <a:blip r:embed="rId1"/>
          <a:srcRect l="-18517" t="0" r="-18517" b="0"/>
          <a:stretch/>
        </p:blipFill>
        <p:spPr>
          <a:xfrm>
            <a:off x="457200" y="1600200"/>
            <a:ext cx="8229240" cy="452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22</Words>
  <Paragraphs>6</Paragraphs>
  <Company>home comput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1:06Z</dcterms:created>
  <dc:creator>matt  fisher</dc:creator>
  <dc:description/>
  <dc:language>en-US</dc:language>
  <cp:lastModifiedBy>matt  fisher</cp:lastModifiedBy>
  <dcterms:modified xsi:type="dcterms:W3CDTF">2009-03-02T19:40:1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